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8A6A-A743-48A7-B91C-66943A625D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486B8-873A-4F36-B8F3-382DBF53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34924A-5DED-42D7-AF06-ED03D95D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134C43-BBD7-416C-995C-A2E42C88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2A5712-722C-4A80-A9DC-56DFFC62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1F79DF-9FF9-4199-9337-A39D7903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FD6860-EB8E-42F5-9212-4E503291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DDDF3E-68BE-4C8E-BADB-A804972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AE1A60-33EC-4803-9BA4-E637D020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AC0063-4BB4-4D8F-A7E7-6B1EC84D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48E76F-2024-4C3E-86FD-7B7975DAE5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3034D-9A40-49E3-B1EF-FFE256BFE8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A738-4AAA-450D-B4C6-46A4407A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51193-B6A9-43A6-AD14-CA4BA82C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54D83-112B-4A3B-9838-B705C4AD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1B7EB-75C0-48AC-9F07-5DF2FDBD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4ADCA-737E-40BA-A855-9652557B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8ACCC-097D-45F1-8F65-2BDA2852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7E74E-802A-4EC5-8ED7-B717B506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5751F-C03F-4500-B6D5-2FCA1DF4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3B8DD-2D37-4FFE-A98B-B0096639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F177C-E911-48C8-9269-50D90041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6B8A6-947D-45E4-9411-FE0FE9DA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E39A-2863-462D-9248-95BBD2F09A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BB1C5-60BF-4358-B869-439D1FEC5F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DD83CF-1347-4DAD-9BB9-175FB86367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55746B-20A3-46C4-9EE7-16119CD2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E7EDFF-BB72-445B-9753-C54B9F05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1D3147-8AF4-4F07-9289-564B8B57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3B422E-B30E-4250-9365-EA3FF2A9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733526-15CB-4815-AAB2-A06A426D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8C1CBF-5DDC-427D-AEC7-27122405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4A6723-D63B-487B-BD47-006F7809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9CB0C9-7F9F-4B79-B3E2-4B5730B6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8FFEF-E86D-43FD-9776-D68A857E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3A3B4D-9ABB-4921-A48D-494C0EF3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BAD05B-98F7-4F6E-AC10-C1AA4C3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0911F1-778E-4C02-B320-7EC258BBC4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A3EC9-53EC-49AC-846D-ECE7947900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1544A-0138-433D-BA3B-0F42E294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28396-5A5C-4330-AB99-1E090A5E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310A8-1994-42F0-9FEA-A422B95A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1DB3F-8F99-43AF-96B8-80FA268C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9884A-D918-4FC4-8591-041C7362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BE6D8-FF36-4516-A7F9-CF61C40B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7475F-23CC-4652-A5D0-99957492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A8343-7190-4445-80A0-33D526FA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FBB57-D580-4F97-823A-2EAFF1E1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55E73-F667-42AA-9DD5-A9CDB8C4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3EB37-3E37-4EC7-994E-F7466373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27629-E944-412A-B216-5E2CA7F47A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D783D-D0C0-4AC5-A8B4-50ECA05858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23E11-4AA0-48CB-BCA9-1B445866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9ACFB-C144-4791-B1F5-5CC50E77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AA2AD-0882-43EF-BDF8-01492947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D15AB-1201-4F14-8EC1-87C43C5D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2E162-3EA3-4A64-80E6-D434B34A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85AFD-31BA-4A1E-A00C-8BB6D637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D0395-8862-4BA1-B0CE-8F5D3C68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D9CE3-A114-488D-9935-1B93AF08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6934B-C5E5-4BE5-8A99-B68FD303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8D295-5D51-46EB-80CE-50EF2479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8D600-ABD4-475F-9BD4-2C762DB2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549CA-D888-4DC5-8582-F1B866BD5E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19FB0-49BA-4646-A1D2-AB6B2D90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FA9D8-4D87-4AFD-A321-1216BD20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937C2-D6F5-4850-9FEB-D27A04AF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273A2-B4CB-4E43-8D1B-50DB9D17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B7E0F-015B-4EE2-8671-104109E0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0843A-6609-40E6-ABCC-8C130A6F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B6C48-B1C7-4807-8E9F-17CC1BC6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595D9-B2A5-481A-8D05-A6F8B311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A2712-FFB8-44A6-8E24-B357C680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A226C-5EE3-4695-9D61-0FEA78F5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96570-1B11-43E6-84ED-CD15ECE6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65710-658A-4210-AAD3-7D38B7B5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842EA-7761-4AD1-A93A-CE400E96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6BE0B-F888-4A46-A92E-9E5D2F65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A441C-9235-4BFD-84D6-3C6836CF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119C9-3FF7-4FC1-8714-68769F01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9B91C-DC7E-45FA-9CED-8669CCB2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3AEDE-FC40-485B-98DB-9426988D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937C3-BDAC-41E0-95E8-133803C2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16FA9-394C-439D-95D2-43C13585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C8E2E-3969-4CFA-9B67-F8F8BD24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7739A-ED71-478A-BDE3-8BDF693E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AC473-B1EF-4F60-BB72-69F72C68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80EE1-18F6-46DF-8BB1-800116C5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4D652-8DF8-4D05-B8D0-3149C7EE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68508-6565-4FD1-B1B7-781EACE6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C026F-F0F7-4E85-A78C-CD8778C5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18E0E-6629-4064-BBEC-C40B06C5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29156-6E93-42AC-9428-806CA4A1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79582-D4EF-4A9F-BB2D-78FCA732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F22B9-67A2-4BAE-9B70-886AEFE1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268C3-4DC1-4E5F-B3B3-3E5A4757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56161-8D54-4B87-8061-9DC7CF88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0B8B8-887D-48AC-8501-D228590F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01161-98E3-4E35-9BB3-92A762E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E59AE-4CDD-436F-A11B-1EE513BA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A7AA9-CCC6-470F-9F3A-59DC92F0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43EC6-B8CC-4D9A-9AE8-D5CA86C1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31C06-B0B6-4F04-A183-FBBD918A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196B1-5CEE-4123-AE35-460A3336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501B4-6D70-4B62-97CB-5C9AC9CE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527AB-42A8-4DB1-B432-1BF795D2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3F25C-4815-4912-B5C5-87693B9D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69483-7BDA-4EA8-BD74-4DED2A4C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CA1BC-171B-4F90-AC32-D9C341A1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A6EA8-321B-4884-8E21-592CBE82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2E922-52E8-451F-BF81-FC071B79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6409-FF27-47C2-8934-C6DE2DAC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EB4FB-FD5A-407C-8B56-3FC3C70A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B3B9F-6FF0-4E58-8014-0C5571F4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9FBAE-682C-45FE-8CAB-38CC9D41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DCB9C-8B5B-4332-ADD0-41FBD8EA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662F3-4F90-499E-A9F6-D9F279F7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FB509-1B63-4089-9C6A-B3C89B66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0D40F-EC82-492C-A0B7-E8D8050A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4AA17-76B9-4BE6-84E8-F788F264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91970-D44D-4F14-872B-12A90D46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C5055-F8ED-4E7D-968D-CE4D3AD4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E36BC-A3B3-4C03-93E3-086C1F44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F9CC9-9437-4D06-AB59-99D4AD6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3B97D-F3DD-4E80-A0AB-57A7ABFE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E2AB0-56FE-4F32-BEAF-2F2ADAEC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E4AC9-6752-4860-B9A2-EC667A35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C1BB4-709D-461E-BC34-068E50D7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8EDCD-EB3F-4CF4-9895-22235B6C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E6DAB-597A-47D8-B31E-EC5B692A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B23FF3-C0AE-4DDF-9948-3FE459EE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8943C-C124-43BE-861C-89277104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988F1-1EBF-42C4-A173-C12591E2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CAEBC-3430-4645-AC02-433D32B3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9F4B6-BC20-43A6-96E2-A22AB6F1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96D26-6331-4552-8F69-8C1CF1C3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F7DAF-1C5F-4D63-9CCE-75906235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D262B-BE5C-4C3B-8CA5-E827DE86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29B1C4-7C10-4D07-9282-A17C3458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1AD238-9664-494A-AA01-F8A5B4C5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BDD2D9-14C3-419F-B493-8DAB6471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2D63C-B101-4F24-B3D9-521262D6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FE60C-0D42-4252-AD62-5E51FA73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134F0-5AD7-47B1-A958-099F0ECF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6DC3CC-4EE4-42C2-AD3D-4322B621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E8073-D5A9-4118-862D-82600AD3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15B6B-3484-4F2B-A223-2AC3F156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47C996-A197-469C-B59A-B17D1FF7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1E76E-40A1-42D1-ABE1-5135B967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3A41C-BF5F-4902-B480-FC0D4B71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E2E49-71FD-4B89-AB26-511C4479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B568A-C694-4A57-864C-E3345671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BE23D-D1F0-4061-8812-976ECD85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DCF90-74CA-4C96-BC50-7B364B69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E4D09C-DBA8-465B-A96C-3A3EC874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6688F-F3C9-4BFA-8AC0-90029762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ECE23-9DCF-4257-BDEB-C48A73E2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7D0F32-EF19-475E-810A-7C5C612F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1A7EB-EE75-47E1-833C-490E9620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1732A-A0C1-45E8-B447-C2392E1A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C38A39-3A99-43E1-B3BB-99BE6084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AD75E-3B2B-4637-91CB-1197891C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91461E-C1AF-4CBF-99B7-DBCA4870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7F1F5F-C51B-4674-BA89-266A0425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AE8248-DBEF-4BDA-9516-696DAF87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6F8F9-8DEB-4FFA-B0D7-B25DE7D7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3F226-D303-497B-9004-0CFA492D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1E684-71DA-4EF9-9931-5E296E5F5C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1A4C3C-5621-4A2D-A989-DA541F82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DE2F41-9659-4FEA-BCF8-07122D71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F6B144-D817-427F-B0B7-2F303A9F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3DE7E0-3246-497E-B22B-0BC85EDF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9DDAE-2BC7-41D0-91B9-24A7C672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81F45-E451-42FE-8E55-B2C947AB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A21270-7070-47E7-8C7E-BBEE9EBE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5AF67-D7FB-46A8-9327-3ABE04CC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E2151-47E9-45DD-A72B-67CEEEC5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F01E8B-20D2-43FD-B382-4F66346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7CCD3-9C6A-4811-911B-DCEB5D94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FEE939-739F-4390-BBD7-4574C08B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C7F7EB-8FD5-4108-BA43-3C6222AC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BA2FA-A27D-4454-AC66-02D58A8A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58D43C-AEDD-492B-8A91-BBEE1950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5A2D7-042A-4D95-8E66-F0FAEAC2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6787F2-4D39-48E2-9431-1405F89E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B0A01F-6E02-49F8-83E0-56342280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0BA762-53C2-42F0-A722-C833826D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10C418-74C0-4742-8A95-256EEFE7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81BB58-B555-4462-8490-3F0A728A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519F3F-8D61-4BCE-AA9B-1D9FA7BC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FEEAD9-730D-47EF-A536-2B5D4ED3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D68E49-A10F-4319-8024-066BCE2F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945C24-841B-456E-A961-8FDBDFC3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D042CB-E509-4269-8D56-6957C6DE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B0C2ED-3238-41DE-BF77-AE43281F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9C7164-3AEE-46E4-B53F-F664D093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E05737-4B78-4C34-9FFE-DB2E1734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32985A-B305-4D5F-ADC5-EC0CB147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EE37D-7E57-4DBE-861C-A7244AE0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06DA3-FD38-4251-BA24-3ADF0796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7B80CA-2568-4846-842C-11E5D480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A99326-EC3B-497C-A86C-A263CB45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965181-1D6F-44B4-BB41-4A975535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E18A56-0FA6-4457-BC9B-D673D726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A9F937-A5DF-4B39-A793-2F1B11C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6D58EA-CD28-44EC-A9B3-8B38927E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B0EB6-25B3-4902-B98E-6C23F46A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0FF65-4192-4108-994A-E1891582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F9491A-0DD4-4EEB-97A6-EB414BF0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881279-158D-462F-94AB-3EEBB639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63640-6DDC-4FF2-83DB-F9C2B599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CFAA3-CAE2-469F-BBA7-21F63540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39B723-B2F8-4AAE-823E-4180E389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D38276-4B49-4523-8DA0-C483064C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FF3F32-BB56-47F3-B130-54A3B3F0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6E1F10-1507-4647-8DC5-8B71C777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85214E-FBD5-4F02-B965-F897D5EE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4EF713-B158-4E5B-9F4B-25BBA439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E90C0D-9ACB-4087-B8B0-FD5388EB62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B4A1-7146-4EE0-A482-AF84A06D53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8F2F-8532-4D1E-A67B-0D039A17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C469-B16A-4E32-B9DB-3DE59F92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F9B1-E860-4D55-9F3E-32D9B473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71CA-8CBC-41E6-A9FC-9F82B234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DE49B-1558-4006-A870-90DBF0DC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7DDE-8C36-4602-9452-8DA0F087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CE0F-436F-4033-8A55-C082AC7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93458-FB1B-4231-938B-72CD4DA5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899B-EC15-4D59-8DC5-9E40C037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9E83-DCB8-4060-B48D-24DE7A56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29F2-BD61-477B-BC26-41DF2065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16F7-67B3-49BE-B35F-8E60806D8B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F6B19-12E4-4AAB-A0AB-1986715912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7CF2-0C1A-49DE-A49B-B5B96ADB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4811A-6DAC-47E6-93CA-07B88DAE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8E54E-5C78-4468-8DF0-4254ABC4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6307BC-26D9-409B-8DA6-495DA73E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2F496-3248-4EEE-956A-C5C811B5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F9A79-33E2-4262-A287-8579BD8F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299E5-0A6F-484A-8F46-A39B9860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65DDCF-2FF7-4EB4-B8F7-F6F342EA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C5E76-B948-4D7E-B59D-8D312794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4723F-428E-42D0-8BE7-6F8D2C68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90F76-9088-4D27-B3E5-7F07D17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4D3E-D35C-41B2-A2E5-800F4F4F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A2E9A-C7BE-49ED-8459-81FA9F5D01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5D3FFD-CC0F-4EF8-A317-77685EB867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E1EB3E-D8EC-4B25-A9D9-C0217195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855EF0-F496-4540-B2A2-CFCF2A4B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7CDA14-4AE7-4572-A2D2-000A8CAC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72E111-186F-47AC-886C-4EAD0C56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F696B-4DFF-4D8F-9F38-BF38DB6F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375471-E0DB-4ACD-90FB-DBF5A8E8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C032C7-88E6-48A6-B35D-5A5A8A40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0DEF72-8FB7-469D-B3EB-CA51D64F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FAD5-853E-4801-AFEB-BA0F544C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019B56-05E2-4C6B-9654-6D1DE731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B3C6EB-883F-4ADF-88DA-A92A6D04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8449FF-B76C-4BDE-B8B3-BE586DC4A5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1302A-A567-40B2-B3E2-84E20D2F2B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4519A-89AA-4894-A434-831DBEBC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9691E-376E-4A25-8942-1B0431C3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7561C-4633-4D9E-941B-B7E1D39E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A228F-53CA-4924-8896-C0F08C2D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95A73-B609-43F9-B936-70EF7F60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FFB2B-ACB5-4A20-BDE3-3939C39A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ACE8-26C8-47B8-AFC6-EDE32F5D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98BEB-7AD9-48F1-9BF5-6C391E6D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1B64D-47C0-4189-A108-E6F9868F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4EE4C-9692-4F08-82C8-5E23721F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581CF-719F-4175-9E64-06218223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85F84-072E-4C8F-A1C0-D77D1B22FD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0C805-A941-4692-B7A2-77A597EC63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02CCF-5C8F-47BD-89D2-A2104BA3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CCB91-72F5-4328-88CA-9004D5A5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450CF-3FDC-4656-9F58-B9AC6529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92E33-7279-464E-92DF-7989DFF0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75C35-BB49-4281-B5CA-CC94E61D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D942E-AA5A-4DF3-B8E2-61CB928A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42A8A5-E98E-4BC0-9B22-17A482DE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CA4A7-B185-4C0F-B44A-9969DAA2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D5303-AE21-4A68-94FB-4E1B8FE7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6B2D11-6D11-4F2A-A0E8-955967DF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75862-E740-4D8C-8694-48835B7B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76418-9641-4393-B5AA-AC6BD846C5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E08AB4-E2D7-4EA4-B30A-BAB655B2E1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286AC4-3598-4FB2-B029-F0F0839E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8E14B0-0E46-46DE-BBD2-8A3C2AF5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7E83-C185-4635-A50D-E147ABF8B8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EACD-7007-425F-9A29-F52CE2DC8D0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CE5A-233B-4191-A137-F0FB4890CE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126D-44B5-4C09-8D65-2443741366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8222-8F92-4730-B7B2-DE96AAAC24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CC00-0709-4A62-8EBB-936CEB4E3E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53EF-CD4C-4560-B1A8-95E03CC815D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23CC-A2B7-4E98-AB9E-4E96F1C1C21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DD62-90BB-4FEE-AC3C-F5FF6B5BAAC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0FB7-DE95-4C18-96C6-59EF049420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6BB1-D465-40EE-84BA-3BB7EB8AA83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5329-D985-4EAE-9F49-49BCF857561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F7C2-9A5B-4A4E-8FC2-C4536807AF0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92C7-174F-4608-B184-2295955A96C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0EFA-F478-468C-AD36-5820952D915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41EA-0214-4650-8400-FE923417FC7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6B41-99CB-43A6-9981-B6CCFA1BB20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216F-79AD-4F68-82C2-FBA9554C9C4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D90B-5BF5-4B4C-808C-D595EA72D63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A652-F964-4396-BC83-9811F8BE2E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492C-1CD6-49C5-81B3-DC388062E9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C09B-2719-4BC8-B623-1FCE6FFE3F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4BC4-2E8F-4EBF-9EA4-9E2E68A1439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706F-FCF9-42AB-BF35-9D43C4CDB1E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0348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2" descr="D:\我的文档-桌面-收藏夹\桌面\QQ图片20150228163326.png"/>
          <p:cNvPicPr/>
          <p:nvPr/>
        </p:nvPicPr>
        <p:blipFill>
          <a:blip r:embed="rId1"/>
          <a:srcRect l="4394" t="17195" r="0" b="0"/>
          <a:stretch/>
        </p:blipFill>
        <p:spPr>
          <a:xfrm>
            <a:off x="357120" y="1401840"/>
            <a:ext cx="8358120" cy="2502000"/>
          </a:xfrm>
          <a:prstGeom prst="rect">
            <a:avLst/>
          </a:prstGeom>
          <a:ln w="0">
            <a:noFill/>
          </a:ln>
        </p:spPr>
      </p:pic>
      <p:sp>
        <p:nvSpPr>
          <p:cNvPr id="999" name="Rectangle 51"/>
          <p:cNvSpPr/>
          <p:nvPr/>
        </p:nvSpPr>
        <p:spPr>
          <a:xfrm>
            <a:off x="1500120" y="14731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1"/>
          <p:cNvSpPr/>
          <p:nvPr/>
        </p:nvSpPr>
        <p:spPr>
          <a:xfrm>
            <a:off x="3786120" y="1473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51"/>
          <p:cNvSpPr/>
          <p:nvPr/>
        </p:nvSpPr>
        <p:spPr>
          <a:xfrm>
            <a:off x="6072120" y="1473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1"/>
          <p:cNvSpPr/>
          <p:nvPr/>
        </p:nvSpPr>
        <p:spPr>
          <a:xfrm>
            <a:off x="8215200" y="1473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51"/>
          <p:cNvSpPr/>
          <p:nvPr/>
        </p:nvSpPr>
        <p:spPr>
          <a:xfrm>
            <a:off x="1500120" y="20462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51"/>
          <p:cNvSpPr/>
          <p:nvPr/>
        </p:nvSpPr>
        <p:spPr>
          <a:xfrm>
            <a:off x="3786120" y="20462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51"/>
          <p:cNvSpPr/>
          <p:nvPr/>
        </p:nvSpPr>
        <p:spPr>
          <a:xfrm>
            <a:off x="6072120" y="20462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51"/>
          <p:cNvSpPr/>
          <p:nvPr/>
        </p:nvSpPr>
        <p:spPr>
          <a:xfrm>
            <a:off x="8215200" y="20462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51"/>
          <p:cNvSpPr/>
          <p:nvPr/>
        </p:nvSpPr>
        <p:spPr>
          <a:xfrm>
            <a:off x="1500120" y="268920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51"/>
          <p:cNvSpPr/>
          <p:nvPr/>
        </p:nvSpPr>
        <p:spPr>
          <a:xfrm>
            <a:off x="3786120" y="268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51"/>
          <p:cNvSpPr/>
          <p:nvPr/>
        </p:nvSpPr>
        <p:spPr>
          <a:xfrm>
            <a:off x="6072120" y="268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51"/>
          <p:cNvSpPr/>
          <p:nvPr/>
        </p:nvSpPr>
        <p:spPr>
          <a:xfrm>
            <a:off x="8215200" y="268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51"/>
          <p:cNvSpPr/>
          <p:nvPr/>
        </p:nvSpPr>
        <p:spPr>
          <a:xfrm>
            <a:off x="1500120" y="32367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3786120" y="3236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51"/>
          <p:cNvSpPr/>
          <p:nvPr/>
        </p:nvSpPr>
        <p:spPr>
          <a:xfrm>
            <a:off x="6072120" y="3236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51"/>
          <p:cNvSpPr/>
          <p:nvPr/>
        </p:nvSpPr>
        <p:spPr>
          <a:xfrm>
            <a:off x="8215200" y="3236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20"/>
          <p:cNvSpPr/>
          <p:nvPr/>
        </p:nvSpPr>
        <p:spPr>
          <a:xfrm>
            <a:off x="357120" y="92556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开火车计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组合 2"/>
          <p:cNvGrpSpPr/>
          <p:nvPr/>
        </p:nvGrpSpPr>
        <p:grpSpPr>
          <a:xfrm>
            <a:off x="20520" y="79200"/>
            <a:ext cx="3481560" cy="527400"/>
            <a:chOff x="20520" y="79200"/>
            <a:chExt cx="3481560" cy="527400"/>
          </a:xfrm>
        </p:grpSpPr>
        <p:pic>
          <p:nvPicPr>
            <p:cNvPr id="1017" name="圆角矩形 30" descr=""/>
            <p:cNvPicPr/>
            <p:nvPr/>
          </p:nvPicPr>
          <p:blipFill>
            <a:blip r:embed="rId2"/>
            <a:stretch/>
          </p:blipFill>
          <p:spPr>
            <a:xfrm>
              <a:off x="183960" y="79200"/>
              <a:ext cx="3318120" cy="5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8" name="组合 4"/>
            <p:cNvGrpSpPr/>
            <p:nvPr/>
          </p:nvGrpSpPr>
          <p:grpSpPr>
            <a:xfrm>
              <a:off x="20520" y="174240"/>
              <a:ext cx="462240" cy="275040"/>
              <a:chOff x="20520" y="174240"/>
              <a:chExt cx="462240" cy="275040"/>
            </a:xfrm>
          </p:grpSpPr>
          <p:sp>
            <p:nvSpPr>
              <p:cNvPr id="1019" name="椭圆 35"/>
              <p:cNvSpPr/>
              <p:nvPr/>
            </p:nvSpPr>
            <p:spPr>
              <a:xfrm rot="16200000">
                <a:off x="269640" y="33732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36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040" y="295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1" name="椭圆 37"/>
              <p:cNvSpPr/>
              <p:nvPr/>
            </p:nvSpPr>
            <p:spPr>
              <a:xfrm rot="16200000">
                <a:off x="269640" y="20844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2" name="椭圆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266040" y="1879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41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20" y="310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42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20" y="283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45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20" y="2008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48" descr=""/>
              <p:cNvPicPr/>
              <p:nvPr/>
            </p:nvPicPr>
            <p:blipFill>
              <a:blip r:embed="rId8"/>
              <a:stretch/>
            </p:blipFill>
            <p:spPr>
              <a:xfrm>
                <a:off x="20520" y="17424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28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9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30" name="椭圆 3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椭圆 37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8" name="矩形 3"/>
          <p:cNvSpPr/>
          <p:nvPr/>
        </p:nvSpPr>
        <p:spPr>
          <a:xfrm>
            <a:off x="142920" y="762120"/>
            <a:ext cx="900108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游戏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找朋友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二七（     ）   三七（       ）     六七（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四七（      ） （    ）七三十五   （     ）七四十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1"/>
          <p:cNvSpPr/>
          <p:nvPr/>
        </p:nvSpPr>
        <p:spPr>
          <a:xfrm>
            <a:off x="1357200" y="146052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51"/>
          <p:cNvSpPr/>
          <p:nvPr/>
        </p:nvSpPr>
        <p:spPr>
          <a:xfrm>
            <a:off x="4071960" y="148428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十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1"/>
          <p:cNvSpPr/>
          <p:nvPr/>
        </p:nvSpPr>
        <p:spPr>
          <a:xfrm>
            <a:off x="7215120" y="148428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四十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1"/>
          <p:cNvSpPr/>
          <p:nvPr/>
        </p:nvSpPr>
        <p:spPr>
          <a:xfrm>
            <a:off x="1500120" y="203184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十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51"/>
          <p:cNvSpPr/>
          <p:nvPr/>
        </p:nvSpPr>
        <p:spPr>
          <a:xfrm>
            <a:off x="3286080" y="203184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1"/>
          <p:cNvSpPr/>
          <p:nvPr/>
        </p:nvSpPr>
        <p:spPr>
          <a:xfrm>
            <a:off x="6357960" y="203184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10"/>
          <p:cNvSpPr/>
          <p:nvPr/>
        </p:nvSpPr>
        <p:spPr>
          <a:xfrm>
            <a:off x="142920" y="2857680"/>
            <a:ext cx="7286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一根绳子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根同样长的绳子共有多少米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1"/>
          <p:cNvSpPr/>
          <p:nvPr/>
        </p:nvSpPr>
        <p:spPr>
          <a:xfrm>
            <a:off x="2357280" y="335772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×6=4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2"/>
          <p:cNvSpPr/>
          <p:nvPr/>
        </p:nvSpPr>
        <p:spPr>
          <a:xfrm>
            <a:off x="142920" y="414180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看口诀写算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3"/>
          <p:cNvSpPr/>
          <p:nvPr/>
        </p:nvSpPr>
        <p:spPr>
          <a:xfrm>
            <a:off x="571680" y="4713120"/>
            <a:ext cx="664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六七四十二     五七三十五      二七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51"/>
          <p:cNvSpPr/>
          <p:nvPr/>
        </p:nvSpPr>
        <p:spPr>
          <a:xfrm>
            <a:off x="714240" y="53085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×4=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51"/>
          <p:cNvSpPr/>
          <p:nvPr/>
        </p:nvSpPr>
        <p:spPr>
          <a:xfrm>
            <a:off x="3071880" y="53085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×7=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51"/>
          <p:cNvSpPr/>
          <p:nvPr/>
        </p:nvSpPr>
        <p:spPr>
          <a:xfrm>
            <a:off x="5500800" y="5308560"/>
            <a:ext cx="142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×7=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0:38:00Z</dcterms:created>
  <dc:creator/>
  <dc:description/>
  <dc:language>en-US</dc:language>
  <cp:lastModifiedBy>万润仪器贸易公司</cp:lastModifiedBy>
  <dcterms:modified xsi:type="dcterms:W3CDTF">2020-08-21T00:39:57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